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BACC-3EA1-4988-A7DC-222C1FC9F6D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BC55-DAD4-4829-8353-F48A4AFE18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9822-075A-4B55-A4BC-3C335A04C2D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A24E-B407-4165-A6F1-AE3082AB996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53C8-D2F4-46FD-A6AD-350814FA007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A5FF-AAB5-4C83-BAA3-25F4DD1431C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6739-24B7-412E-8878-8C427AE4B9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E723-AA7E-4FAD-9639-081A269A76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00E3-2487-4208-9CBE-60767F65394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0AA9-F5AB-496C-BF38-D98B4816E95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596C-831D-411A-BA63-4B2D841F31F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5647-332E-4BCB-936F-94CF3934328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0AF0-9160-41D0-A855-FDCE2425AC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EFFB-A172-4B24-9254-C65CD6AD939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9FD4-9AAE-47E3-BFDB-F6D1696A226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008F-36F0-4E07-9C45-88FFBFE92C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907D-4D00-4F17-8329-2EB92A48B4A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99AF-A333-4EC1-B3DD-E061E226086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398-6499-4DD1-9C82-C698D4DB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586-EA4E-4F08-BB2B-34898FC0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DB3-B97B-4FC4-AE21-3987B8B1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C34D-6985-416A-89C8-2A37B99B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E6EB-032F-4CB7-81B7-959D1BF5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7C62-6378-4D23-9337-7A9275F4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8083-2379-43BD-83E7-447E88EE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7B8A-960C-4A0D-B089-C60D138C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90B6-82D6-4D75-A80F-101F301E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0413-9D6B-430C-86E8-1574F0A8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5CB5-25D7-4AA9-9CD8-C1A7E9E4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D26-2160-4420-9E75-E12E832E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C993-6251-4D53-951C-6A9A3996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3A14-5B49-4967-901A-9AE8EDB9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BCD5-5D8E-4852-9550-06423F77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DD96-08C1-447A-957E-6B6A3024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36F8-DB85-4BF5-B285-3DA92337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0E8D5-3445-4690-A46D-61BDEED9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CEFA3-46BA-4DAB-81DF-2B22E9DB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D719A-F280-44D8-80F2-92E4CC72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68E30-1FCE-414A-910E-EBE82848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748CD-1DD3-40F7-9060-794BC6A0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791-0FEE-4583-816A-5350FF02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E8DA6-197A-4D3A-B4A2-0D30BE1B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3AC30-D76E-4B80-8436-F8F38E7E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6BCC-2C9F-47A8-8596-CEDD7713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446F8-3B77-4530-B5CB-5FF48165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BB115-DEE5-4C8A-8373-4422DD76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D29A-82D6-44C2-B638-987CECC7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12FE9-3AA1-488F-A2CB-6B77674E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327-F40C-4EB0-8CCE-16355CA2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C12-9A09-4095-B1BE-D33D34CA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42B-3B1A-4A45-BD2C-DE0579A1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5CA-CD45-466F-8754-46A71617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4FC-0D1D-4178-AB6E-3DB8631E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7A8-1824-4092-AAA0-5F04BA7A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DF5F-DB59-4F05-8F03-7C0E06B9C46C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D43E-C029-41E0-BB02-D18D801138BE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782C-B97F-4747-B80E-2F243DF4703A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13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03160" y="182160"/>
            <a:ext cx="8713800" cy="25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七章 人类活动对生物圈的影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分析人类活动对生态环境的影响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圆角矩形 6">
            <a:hlinkClick r:id="rId1" action="ppaction://hlinksldjump"/>
          </p:cNvPr>
          <p:cNvSpPr/>
          <p:nvPr/>
        </p:nvSpPr>
        <p:spPr>
          <a:xfrm>
            <a:off x="4008600" y="2827440"/>
            <a:ext cx="326520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导学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菱形 8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菱形 9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圆角矩形 10">
            <a:hlinkClick r:id="rId2" action="ppaction://hlinksldjump"/>
          </p:cNvPr>
          <p:cNvSpPr/>
          <p:nvPr/>
        </p:nvSpPr>
        <p:spPr>
          <a:xfrm>
            <a:off x="4008600" y="3645000"/>
            <a:ext cx="326520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课前预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圆角矩形 11">
            <a:hlinkClick r:id="rId3" action="ppaction://hlinksldjump"/>
          </p:cNvPr>
          <p:cNvSpPr/>
          <p:nvPr/>
        </p:nvSpPr>
        <p:spPr>
          <a:xfrm>
            <a:off x="4008600" y="4437000"/>
            <a:ext cx="326520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课堂探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圆角矩形 12">
            <a:hlinkClick r:id="rId4" action="ppaction://hlinksldjump"/>
          </p:cNvPr>
          <p:cNvSpPr/>
          <p:nvPr/>
        </p:nvSpPr>
        <p:spPr>
          <a:xfrm>
            <a:off x="4008600" y="6021360"/>
            <a:ext cx="326520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课后练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圆角矩形 13">
            <a:hlinkClick r:id="rId5" action="ppaction://hlinksldjump"/>
          </p:cNvPr>
          <p:cNvSpPr/>
          <p:nvPr/>
        </p:nvSpPr>
        <p:spPr>
          <a:xfrm>
            <a:off x="4008600" y="5229360"/>
            <a:ext cx="326520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随堂检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92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矩形 1"/>
          <p:cNvSpPr/>
          <p:nvPr/>
        </p:nvSpPr>
        <p:spPr>
          <a:xfrm>
            <a:off x="1568520" y="1125360"/>
            <a:ext cx="905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结合上图数据分析华北地区造成沙尘暴的原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联系实际提出治理沙尘暴的方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9"/>
          <p:cNvSpPr/>
          <p:nvPr/>
        </p:nvSpPr>
        <p:spPr>
          <a:xfrm>
            <a:off x="2028960" y="2303640"/>
            <a:ext cx="81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据图分析可知，森林和草地面积减少，土壤蓄水能力降低，植被遭破坏使土壤裸露并荒漠化，森林防风固沙能力下降，有风便起风沙，导致大风天气形成沙尘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0"/>
          <p:cNvSpPr/>
          <p:nvPr/>
        </p:nvSpPr>
        <p:spPr>
          <a:xfrm>
            <a:off x="2000160" y="5159520"/>
            <a:ext cx="82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退耕还林、还草；营造防护林；保护草原，控制牲畜的饲养量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9224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随堂检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1523880" y="13820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知识点一：探讨人口增长及其对环境的影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控制人口数量的最终目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消灭饥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使人类有足够的水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减少能源的消耗，以期长效利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实现人与自然的和谐发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"/>
          <p:cNvSpPr/>
          <p:nvPr/>
        </p:nvSpPr>
        <p:spPr>
          <a:xfrm>
            <a:off x="7786800" y="2369880"/>
            <a:ext cx="78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9224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随堂检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1523880" y="2321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3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近几年，雾霾天气在我国中东部地区时有发生，多地城市陷入严重空气污染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。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下列措施中，有利于减少雾霾天气发生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提倡秸秆焚烧还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春节大量燃放烟花爆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提倡家庭豪华装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发展公共交通，减少汽车尾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6411960" y="308664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随堂检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1523880" y="18338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知识点三：生物入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4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我国海关禁止未经检疫的生物进入我国境内，从生物学的角度考虑，主要目的是防止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逃税而牟取暴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外来生物入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被人捕捉后吃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这种生物因不适应环境而灭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9120240" y="325044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5518080" y="83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夯实基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1523880" y="131616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5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对资源、环境和社会产生积极影响的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计划生育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口膨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随意开发资源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限制人口的增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6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关于人口与环境的叙述，不正确的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多是好事，改造环境的力量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口过度增长造成生态平衡失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口过度增长导致环境质量下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口过度增长造成资源危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"/>
          <p:cNvSpPr/>
          <p:nvPr/>
        </p:nvSpPr>
        <p:spPr>
          <a:xfrm>
            <a:off x="2152800" y="177444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"/>
          <p:cNvSpPr/>
          <p:nvPr/>
        </p:nvSpPr>
        <p:spPr>
          <a:xfrm>
            <a:off x="2103480" y="37774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"/>
          <p:cNvSpPr/>
          <p:nvPr/>
        </p:nvSpPr>
        <p:spPr>
          <a:xfrm>
            <a:off x="1523880" y="18036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7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对图漫画的理解，不正确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口急剧增长会对环境产生巨大压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口急剧增长会使生物圈遭到一定程度的破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口急剧增长会使人类需求与有限的环境资源矛盾加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口急剧增长，人多力量大，会使生产力大大提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8062920" y="13150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图片24" descr="菁优网：http://www.jyeoo.com"/>
          <p:cNvPicPr/>
          <p:nvPr/>
        </p:nvPicPr>
        <p:blipFill>
          <a:blip r:embed="rId1"/>
          <a:stretch/>
        </p:blipFill>
        <p:spPr>
          <a:xfrm>
            <a:off x="5079960" y="1895400"/>
            <a:ext cx="1047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1527120" y="15217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8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日常生活中经常要用到塑料袋，使用塑料袋后最好的处理方式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包装生活垃圾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不处理就扔掉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打结后再扔掉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经回收再利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9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不可作为人类破坏生态环境实例的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森林植被的大量砍伐和草原的过度放牧，使我国频频发生沙尘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用网捕杀鸟类，导致害虫大量增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农民喷洒大量农药杀死害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在林业部门的规划下砍伐一定的树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5614920" y="151200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2160720" y="34711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1523880" y="15598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0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作为生物圈中的一员，与环境之间有着密切关系，下列叙述不合理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类破坏环境的行为最终威胁人类自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环境改变与破坏能影响生物的多样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生物多样性锐减的主要原因是大量排放污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目前，生物圈是所有生物唯一的家园，人类应该保护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1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生物圈遭到破坏的主要原因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涝灾过多造成的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地震频繁发生引起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虫害过多造成的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由于人类活动引起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7443720" y="17470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8224920" y="47743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1"/>
          <p:cNvSpPr/>
          <p:nvPr/>
        </p:nvSpPr>
        <p:spPr>
          <a:xfrm>
            <a:off x="1546200" y="23936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2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哪项人类活动不会破坏生态环境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乱砍滥发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植树造林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乱捕滥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排放废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9583560" y="239292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523880" y="24156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3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寒来暑往，春华秋实，生物课的学习结束了。“生物圈是所有生物的共同家园，人是生物圈中普通一员”的理念必将牢牢铭刻我们心中，并践行在我们行动中。以下对此观点的理解，错误的是（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强调环境与经济的协调发展，追求人与自然的和谐相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生物圈是人类的繁荣家园，也是所有生物生存的栖息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类社会应该高速发展，但不能以耕地减少为代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围海造田可以促进经济发展，更能改善环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"/>
          <p:cNvSpPr/>
          <p:nvPr/>
        </p:nvSpPr>
        <p:spPr>
          <a:xfrm>
            <a:off x="10117080" y="24199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标题 1"/>
          <p:cNvSpPr/>
          <p:nvPr/>
        </p:nvSpPr>
        <p:spPr>
          <a:xfrm>
            <a:off x="2006640" y="6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"/>
              </a:rPr>
              <a:t>导学目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1754280" y="776160"/>
            <a:ext cx="826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习目标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1487520" y="1557360"/>
            <a:ext cx="93614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举例说出人对生态环境多方面的影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认同人类活动对生态环境的影响，增强环境保护意识和法律意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进一步掌握调查和收集资料等科学探究的方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菱形 11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菱形 12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2944440" y="3852720"/>
            <a:ext cx="8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学习重、难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1631880" y="44370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掌握调查和收集资料等科学探究的方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认同人类活动对生态环境的影响，形成环境保护意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81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1631880" y="6435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523880" y="25347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4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倡导实行“低碳生活”、“低碳经济”的目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保护生态环境，保护生物的多样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降低生产和生活成本，节约人力物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减少饮食质量和数量，保证人体健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减少化工产品的使用率，增加天然原料有使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3127320" y="279324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81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1631880" y="6435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1"/>
          <p:cNvSpPr/>
          <p:nvPr/>
        </p:nvSpPr>
        <p:spPr>
          <a:xfrm>
            <a:off x="1776240" y="1257480"/>
            <a:ext cx="889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7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广东）中国率先在海域可燃冰试开采中实现了连续稳定产气，可燃冰也叫天然气水合物，下列对可燃冰的叙述，错误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是一种消洁能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替代石油使用可以减少酸雨的形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是一种高效能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开采不用考虑对海洋生态环境的影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8937720" y="220716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81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1523880" y="2149920"/>
            <a:ext cx="898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00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月底，无锡太湖发生蓝藻大爆发，导致水体发臭，无法饮用。另据报道，近年来太湖流域某些河道水葫芦（一种水生  植物）过度繁殖，泛滥成灾，后又腐烂，导致养殖的鱼类大量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）造成蓝藻爆发、水葫芦过度繁殖的主要原因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　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                                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）而养殖的鱼类大量死亡的直接原因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2251080" y="3804840"/>
            <a:ext cx="75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水中氮、磷含量偏高（或水体富营养化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1733400" y="5105160"/>
            <a:ext cx="856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水葫芦覆盖水面使当地植物丧失阳光和生存空间而死亡  以当地植物为食的当地水生动物随之死亡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"/>
          <p:cNvSpPr/>
          <p:nvPr/>
        </p:nvSpPr>
        <p:spPr>
          <a:xfrm>
            <a:off x="2616120" y="2482560"/>
            <a:ext cx="63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生产或生活污水处理后排放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6"/>
          <p:cNvSpPr/>
          <p:nvPr/>
        </p:nvSpPr>
        <p:spPr>
          <a:xfrm>
            <a:off x="1989000" y="1052640"/>
            <a:ext cx="7858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）要防止此类事件的再次发生，除了在农田中施用适量的肥料并防止流失或人工打捞水葫芦外，还应采取的措施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　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（举出一种即可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1731960" y="3616200"/>
            <a:ext cx="875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水葫芦中含有较多的有机物质，如何化害为利，加以利用，也是人们思考的问题。请举出利用水葫芦的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1"/>
          <p:cNvSpPr/>
          <p:nvPr/>
        </p:nvSpPr>
        <p:spPr>
          <a:xfrm>
            <a:off x="2200320" y="5078160"/>
            <a:ext cx="67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用水葫芦制沼气或制饲料或制肥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810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1"/>
          <p:cNvSpPr/>
          <p:nvPr/>
        </p:nvSpPr>
        <p:spPr>
          <a:xfrm>
            <a:off x="1919160" y="141300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去年以来，雾霾天气一直困扰着我国北方一些地区，随着空气质量的恶化，阴霾天气出现机会增多，危害加重。不少地区把雾霾天气作为灾害性天气预警预报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M2.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雾霾天气的形成有促进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你回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1523880" y="1768680"/>
            <a:ext cx="898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MP2.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是指空气中直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　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.5μ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（微米）的固体颗粒物或液滴的总称，它的数值越高代表空气污染程度越高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PM2.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主要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和心血管系统造成伤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）去年以来我省多地市出现过雾霾天气．如果遇到雾霾天气，说出至少两种自我保护办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①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　       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；②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　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   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6550200" y="141192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小于或等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1859040" y="292788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呼吸系统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2144880" y="4447440"/>
            <a:ext cx="15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戴口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4683240" y="4447440"/>
            <a:ext cx="53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雾霾天气少开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图片 3" descr=""/>
          <p:cNvPicPr/>
          <p:nvPr/>
        </p:nvPicPr>
        <p:blipFill>
          <a:blip r:embed="rId1"/>
          <a:stretch/>
        </p:blipFill>
        <p:spPr>
          <a:xfrm>
            <a:off x="3287880" y="1916280"/>
            <a:ext cx="6324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标题 1"/>
          <p:cNvSpPr/>
          <p:nvPr/>
        </p:nvSpPr>
        <p:spPr>
          <a:xfrm>
            <a:off x="19303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菱形 2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菱形 2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1523880" y="1675800"/>
            <a:ext cx="898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知识点一  探讨人口增长及其对环境的影响（阅读教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P10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0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世界人口现状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0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年已经突破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人口增长带来的问题：对资源、环境和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产生巨大的影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我国人口现状及其政策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现状：是世界第一人口大国，人口问题非常突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政策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目的：为了控制人口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和提高人口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7881840" y="1840680"/>
            <a:ext cx="28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7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1"/>
          <p:cNvSpPr/>
          <p:nvPr/>
        </p:nvSpPr>
        <p:spPr>
          <a:xfrm>
            <a:off x="3840120" y="478080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计划生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5796000" y="529668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9093240" y="230724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社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8809200" y="5296680"/>
            <a:ext cx="28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素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92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菱形 11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菱形 12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1523880" y="2163240"/>
            <a:ext cx="898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具体要求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晚婚——比法定结婚年龄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年结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晚育——婚后初次生育时达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年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少生——稳定低生育水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优生——通过男女青年婚前体检、孕妇定期检查身体等措施，避免生出具有遗传缺陷的孩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7597800" y="285660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晚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631880" y="1200960"/>
            <a:ext cx="898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知识点二  分析人类活动影响生态环境的实例（阅读教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P10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0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）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负面影响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滥伐森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工厂将大量烟雾直接排到大气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水华的产生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捕杀鸟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正面影响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植树造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对受伤的野鸟进行救治和喂养，康复后放归大自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建立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保护区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3173400" y="5731560"/>
            <a:ext cx="14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自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0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1523880" y="944640"/>
            <a:ext cx="898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知识点三  生物入侵（阅读教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P10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0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概念：生物随着商品贸易和人员往来迁移到新的环境中并对环境造成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的现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不受时间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的限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传播速度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防治措施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提高对生物入侵的认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谨慎引入外来物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出入境部门要加强对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的检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5756400" y="178488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严重危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4483080" y="284760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国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5908680" y="533304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有害生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92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1847880" y="9824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兰亭黑简体"/>
              </a:rPr>
              <a:t>探究一  探讨人口增长及其对环境的影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"/>
          <p:cNvSpPr/>
          <p:nvPr/>
        </p:nvSpPr>
        <p:spPr>
          <a:xfrm>
            <a:off x="1608120" y="1557360"/>
            <a:ext cx="906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请你认真阅读课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10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资料分析所提到的我国不同年代人口数量的数据表，认真回答以下问题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我国什么时候人口数量增加明显？可能原因是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1774800" y="4504320"/>
            <a:ext cx="857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我国从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1949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年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1989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年，人口增长明显加快。新中国是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1949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年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日成立的，随着社会主义建设的蓬勃发展，我国人民生活水平不断提高，医疗卫生条件不断改善，致使我国人口增长明显加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600200" y="1042920"/>
            <a:ext cx="906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世纪中叶以后，我国人口增长率在什么时候基本稳定在一个较低水平？可能原因是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2422440" y="384696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我国的人口增长率在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1979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年以后基本稳定在一个较低水平。这是因为我国实行了计划生育政策，并鼓励晚婚晚育、少生优生。这些措施使我国的人口增长速度放缓，并能稳定于较低水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1666800" y="11286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探究二  分析人类活动影响生态环境的实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"/>
          <p:cNvSpPr/>
          <p:nvPr/>
        </p:nvSpPr>
        <p:spPr>
          <a:xfrm>
            <a:off x="1566720" y="1844640"/>
            <a:ext cx="905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如图是科学工作者对我国北方地区森林、草原和荒漠面积变化的调查结果，这对分析我国华北地区多次出现的沙尘暴天气有很大帮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图片24" descr="菁优网：http://www.jyeoo.com"/>
          <p:cNvPicPr/>
          <p:nvPr/>
        </p:nvPicPr>
        <p:blipFill>
          <a:blip r:embed="rId1"/>
          <a:stretch/>
        </p:blipFill>
        <p:spPr>
          <a:xfrm>
            <a:off x="2697120" y="3573360"/>
            <a:ext cx="491184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01:24:27Z</dcterms:created>
  <dc:creator>Windows 用户</dc:creator>
  <dc:description/>
  <dc:language>en-US</dc:language>
  <cp:lastModifiedBy>Windows 用户</cp:lastModifiedBy>
  <dcterms:modified xsi:type="dcterms:W3CDTF">2018-02-26T10:11:25Z</dcterms:modified>
  <cp:revision>3</cp:revision>
  <dc:subject/>
  <dc:title>PowerPoint 演示文稿</dc:title>
</cp:coreProperties>
</file>